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10158413" cy="7621588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FB97D-973A-4281-91A5-A79C6D574FF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8CBCC-3F83-40F4-8092-E85F1EBE320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E2777-206E-4A13-8572-00B99914DF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4B17B-93EE-4A0C-ABB8-E36F83BB53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83B0D-3A23-42D6-AA75-F02B267675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0AD00-84C4-4B7C-94AB-BF874D9290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A1BD-10DC-441D-BA7B-F971D2F2693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7E885-9E09-424E-98CF-16DBF2F14A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5F259-1014-453E-B468-E22817D533F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06BBA-D9D4-47C5-8506-9667A11A8F1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670D0-2C04-42CB-9D80-D7C74F1D190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1CC1-D284-4A16-817F-2F328CADEED9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03192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797440" y="208260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26640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03192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797440" y="4457520"/>
            <a:ext cx="263340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66400" y="139320"/>
            <a:ext cx="4483080" cy="78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457160" y="445752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7160" y="2082600"/>
            <a:ext cx="399096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66400" y="4457520"/>
            <a:ext cx="8178840" cy="21686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2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Rectangle 3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AutoShape 4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Rectangle 5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6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-50760" y="-22320"/>
            <a:ext cx="7061040" cy="2054160"/>
          </a:xfrm>
          <a:prstGeom prst="rect">
            <a:avLst/>
          </a:prstGeom>
          <a:solidFill>
            <a:srgbClr val="1c58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1" marL="406440" indent="-216000">
              <a:spcBef>
                <a:spcPts val="1100"/>
              </a:spcBef>
              <a:buClr>
                <a:srgbClr val="1c589d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2" marL="673200" indent="-254160">
              <a:spcBef>
                <a:spcPts val="1100"/>
              </a:spcBef>
              <a:buClr>
                <a:srgbClr val="5a6c5f"/>
              </a:buClr>
              <a:buSzPct val="64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3" marL="171468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457200">
              <a:spcBef>
                <a:spcPts val="1100"/>
              </a:spcBef>
              <a:buClr>
                <a:srgbClr val="000000"/>
              </a:buClr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7524720" y="6670800"/>
            <a:ext cx="2013120" cy="7747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1"/>
          </p:nvPr>
        </p:nvSpPr>
        <p:spPr>
          <a:xfrm>
            <a:off x="495252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ill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AFEB-AA4D-4C0C-981A-DC67A214A333}" type="slidenum">
              <a:rPr b="0" lang="en-US" sz="1200" spc="-1" strike="noStrike">
                <a:solidFill>
                  <a:srgbClr val="000000"/>
                </a:solidFill>
                <a:latin typeface="Gill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0" t="34227" r="255" b="459"/>
          <a:stretch/>
        </p:blipFill>
        <p:spPr>
          <a:xfrm>
            <a:off x="8013600" y="-3240"/>
            <a:ext cx="2146320" cy="2022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"/>
          <p:cNvPicPr/>
          <p:nvPr/>
        </p:nvPicPr>
        <p:blipFill>
          <a:blip r:embed="rId4"/>
          <a:srcRect l="27090" t="0" r="0" b="24901"/>
          <a:stretch/>
        </p:blipFill>
        <p:spPr>
          <a:xfrm>
            <a:off x="5078520" y="-19080"/>
            <a:ext cx="3076560" cy="2052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8094600" y="-6480"/>
            <a:ext cx="84240" cy="203832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Rectangle 9"/>
          <p:cNvSpPr/>
          <p:nvPr/>
        </p:nvSpPr>
        <p:spPr>
          <a:xfrm rot="10800000">
            <a:off x="5079600" y="-19080"/>
            <a:ext cx="152280" cy="179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AutoShape 10"/>
          <p:cNvSpPr/>
          <p:nvPr/>
        </p:nvSpPr>
        <p:spPr>
          <a:xfrm flipH="1" rot="10766400">
            <a:off x="5079600" y="1763280"/>
            <a:ext cx="152280" cy="33012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"/>
          <p:cNvPicPr/>
          <p:nvPr/>
        </p:nvPicPr>
        <p:blipFill>
          <a:blip r:embed="rId2"/>
          <a:srcRect l="28214" t="291" r="0" b="6895"/>
          <a:stretch/>
        </p:blipFill>
        <p:spPr>
          <a:xfrm>
            <a:off x="6807240" y="1981080"/>
            <a:ext cx="3230640" cy="413064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4"/>
          <p:cNvSpPr/>
          <p:nvPr/>
        </p:nvSpPr>
        <p:spPr>
          <a:xfrm>
            <a:off x="-12600" y="1981080"/>
            <a:ext cx="622080" cy="414036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9880560" y="291960"/>
            <a:ext cx="152280" cy="7340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AutoShape 5"/>
          <p:cNvSpPr/>
          <p:nvPr/>
        </p:nvSpPr>
        <p:spPr>
          <a:xfrm flipH="1" rot="21566400">
            <a:off x="9866880" y="-25560"/>
            <a:ext cx="162000" cy="327240"/>
          </a:xfrm>
          <a:prstGeom prst="rtTriangl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7"/>
          <p:cNvSpPr/>
          <p:nvPr/>
        </p:nvSpPr>
        <p:spPr>
          <a:xfrm rot="10800000">
            <a:off x="444600" y="1898640"/>
            <a:ext cx="164880" cy="39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98" name="Picture 18" descr=""/>
          <p:cNvPicPr/>
          <p:nvPr/>
        </p:nvPicPr>
        <p:blipFill>
          <a:blip r:embed="rId3"/>
          <a:stretch/>
        </p:blipFill>
        <p:spPr>
          <a:xfrm>
            <a:off x="614520" y="6553080"/>
            <a:ext cx="1855800" cy="7146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9"/>
          <p:cNvSpPr/>
          <p:nvPr/>
        </p:nvSpPr>
        <p:spPr>
          <a:xfrm rot="10765800">
            <a:off x="456840" y="5789160"/>
            <a:ext cx="152280" cy="32868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0" name="Picture 10" descr=""/>
          <p:cNvPicPr/>
          <p:nvPr/>
        </p:nvPicPr>
        <p:blipFill>
          <a:blip r:embed="rId4"/>
          <a:stretch/>
        </p:blipFill>
        <p:spPr>
          <a:xfrm>
            <a:off x="603360" y="1981080"/>
            <a:ext cx="6194160" cy="4148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1"/>
          <p:cNvSpPr/>
          <p:nvPr/>
        </p:nvSpPr>
        <p:spPr>
          <a:xfrm>
            <a:off x="6789600" y="2273400"/>
            <a:ext cx="152640" cy="38574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AutoShape 12"/>
          <p:cNvSpPr/>
          <p:nvPr/>
        </p:nvSpPr>
        <p:spPr>
          <a:xfrm rot="21566400">
            <a:off x="6794280" y="1968120"/>
            <a:ext cx="152280" cy="330120"/>
          </a:xfrm>
          <a:prstGeom prst="rtTriangle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023480" y="-19080"/>
            <a:ext cx="149400" cy="7651800"/>
          </a:xfrm>
          <a:prstGeom prst="rect">
            <a:avLst/>
          </a:prstGeom>
          <a:solidFill>
            <a:srgbClr val="0f56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4" name="Picture 15" descr="H&amp;V Logo"/>
          <p:cNvPicPr/>
          <p:nvPr/>
        </p:nvPicPr>
        <p:blipFill>
          <a:blip r:embed="rId5"/>
          <a:stretch/>
        </p:blipFill>
        <p:spPr>
          <a:xfrm>
            <a:off x="8432640" y="6400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bluecrossma.com/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36200" y="-360"/>
            <a:ext cx="8636040" cy="186228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en-US" sz="3800" spc="-1" strike="noStrike">
                <a:solidFill>
                  <a:srgbClr val="5a6c5f"/>
                </a:solidFill>
                <a:latin typeface="Garamond"/>
              </a:rPr>
              <a:t>MIIA - Blue Cross Blue Shield Proposed Benefits </a:t>
            </a:r>
            <a:endParaRPr b="0" lang="en-US" sz="3800" spc="-1" strike="noStrike">
              <a:solidFill>
                <a:srgbClr val="5a6c5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Out-Of-Pocket Maximum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7960" y="2590560"/>
            <a:ext cx="922032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urrent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Enhanced Tier admission out of pocket maximum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Standard or basic tier admiss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300. out of pocket maximum for Surgical Day Care Admissions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ew Pl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1200 out of pocket maximum for all inpatient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$600 out of pocket maximum for surgical day care admission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5320" y="45684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ealthy Livi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200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Fitne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$150 Weight Lo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ildbirth Class Benefit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Babi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Line:  1-888-247-BLUE (2583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Vision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Living Healthy Naturally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afe Beginnings Discoun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9000" y="30456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Member Central Accoun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45680" y="228564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reate An Online Account, Then You Can: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hange Your PCP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quest A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Plan Benef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view You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rack Your Deductible &amp; Coinsuranc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nroll In My Blue Health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0" y="2438280"/>
            <a:ext cx="9067680" cy="454680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For Provider Information Or Questions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Your Membership, Benefits, Referrals Or Claim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Member Service Toll-free Number On ID Car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onday - Friday, 8 a.m. - 6 p.m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r Visit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lan Offerings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HMO Blue New England (HM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lue Care Elect Preferred  (PPO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D5B4E-5D96-4C69-A771-0293AFE4660D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HMO Blue New England HMO Blue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60240" y="2514240"/>
            <a:ext cx="88394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Use HMO Blue Network Provid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CP Required – Change Anytime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Referrals To Network Speciali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For:  OB/GYN Care, Chiropractic Care, Outpatient Behavioral Health Visits, Routine Vision Exam, Emergency Or Out-Of-Area Urgent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Blue Care Elect Preferred (PPO)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66400" y="3048120"/>
            <a:ext cx="8178840" cy="35812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Primary Care Physician Needed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Referrals Needed For Specialty Care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ational Network – Ability to have services rendered out of state at the same out of pocket cost as HMO member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66092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Find A Blue  Cross Network Provider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12880" y="28191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Visi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bluecrossma.com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Call Physician Selection Service 1-800-821-1388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sk Your Providers If They Are In The HMO Blue Network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Proposed Chang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66400" y="2590920"/>
            <a:ext cx="8178840" cy="403848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ddition of a plan year deductible for some services - $250 Per Individual, $750 Per Family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imary Care Physician Office Visits 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Specialist Office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Emergency Room Visi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RI, CT and PET Scan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Prescription Drug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387B-5057-450C-9E99-18322E5464F6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That Are Not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03040" y="2057400"/>
            <a:ext cx="9956880" cy="51055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 fontScale="99000"/>
          </a:bodyPr>
          <a:p>
            <a:pPr marL="226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ERVICES THAT ARE NOT SUBJECT TO DEDUC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ventive Visits, Related Tests &amp; Immunizations: You Pay $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no change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Diagnostic PCP, OB/GYN, Nurse Practitioner Visits:  You Pay $20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0 to $20 per visit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Mental Health Office Visits You Pay $15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0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Other Professional Providers &amp; Specialist Visits: You Pay $35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pay $2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Prescription Drugs   You Pay 10/25/50 for a 30 day supply, 20/50/110 through Mail Service. (t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oday you have a 10/20/40 for retail, 20/40/90 mail.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Chiropractic Visits – You pay $20 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(today you pay $15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hort Term Rehabilitation Therapy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-226080"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Speech, hearing, and language disorder treatment – You Pay $20  (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oday you pay $15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36520" indent="0"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26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4952880" y="7315200"/>
            <a:ext cx="24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A3BA-EB80-4259-9987-A76E31290050}" type="slidenum">
              <a:rPr b="0" lang="en-US" sz="1200" spc="-1" strike="noStrike">
                <a:solidFill>
                  <a:srgbClr val="000000"/>
                </a:solidFill>
                <a:latin typeface="GillSans"/>
                <a:ea typeface="ヒラギノ角ゴ Pro W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Services Subject To The Deductibl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79360" y="2133360"/>
            <a:ext cx="9524880" cy="510516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After You Pay $250/$750. Plan Year Deductible, Then: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agnostic Labs, X-Rays &amp; Other Tests: You Pay  $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T, Pet Scans and MRI - $100 per category of tests (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Emergency Room: You Pay $100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00 with no deductible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Inpatient Admissions:  You Pay $300 at a lower cost hospital, $700 at a higher cost hospital.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200 for Lower cost hospitals and $400 for higher cost hospital with no deductible)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Surgical Day Care – You Pay $150 per admission after deductible (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today you pay $150 and have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Hospice and Home Health Care -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(today you pay nothing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urable Medical Equipment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You Pay $0 after Deductible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$0 with no deductibl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lnSpc>
                <a:spcPct val="80000"/>
              </a:lnSpc>
              <a:spcBef>
                <a:spcPts val="11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Prosthetic Devices – You pay Nothing after deductible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 –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 (today you pay 20% co-insurance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0">
              <a:lnSpc>
                <a:spcPct val="80000"/>
              </a:lnSpc>
              <a:spcBef>
                <a:spcPts val="36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2860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6400" y="139320"/>
            <a:ext cx="4483080" cy="170172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Why Change?</a:t>
            </a:r>
            <a:r>
              <a:rPr b="0" lang="en-US" sz="44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66400" y="2082600"/>
            <a:ext cx="8178840" cy="4546440"/>
          </a:xfrm>
          <a:prstGeom prst="rect">
            <a:avLst/>
          </a:prstGeom>
          <a:noFill/>
          <a:ln w="0">
            <a:noFill/>
          </a:ln>
        </p:spPr>
        <p:txBody>
          <a:bodyPr lIns="38160" rIns="38160" tIns="38160" bIns="38160" anchor="t">
            <a:normAutofit/>
          </a:bodyPr>
          <a:p>
            <a:pPr marL="22860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Benefits will not change for a period agreed upon by management and labor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hidden out of pocket cos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No off anniversary rates increase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spcBef>
                <a:spcPts val="1100"/>
              </a:spcBef>
              <a:buClr>
                <a:srgbClr val="000000"/>
              </a:buClr>
              <a:buSzPct val="8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Deductible is plan year not calendar ye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Cashman Elementary School</cp:lastModifiedBy>
  <dcterms:modified xsi:type="dcterms:W3CDTF">2012-05-09T12:26:38Z</dcterms:modified>
  <cp:revision>546</cp:revision>
  <dc:subject/>
  <dc:title>Corporate Update &amp; Vision for Affordability</dc:title>
</cp:coreProperties>
</file>